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110-F511-4DB2-BCC8-0778019E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94F-3D68-45F2-AFF4-92ACAD64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3EC-998E-4FAB-8750-283718AE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478-9A16-4836-B03B-929C8D04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AB5-7A17-4587-B863-711D63D0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713-FF87-4E29-92D8-2AF829D4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0B3-19B3-499F-A16A-4B7F5E04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DCF-35ED-453C-97BE-3EC94AEE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710-CB4C-401E-91F5-62E0E843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994-7F18-4F1D-B644-5E97CE1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339-EBDE-485C-A98A-AAE227A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6A1-88FF-4AFE-9118-45E04B5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2172-130D-4210-97AA-9D104F2FD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58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grès en Résolution de Structu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ar Diffractométrie de Poud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9520" y="2209680"/>
            <a:ext cx="52448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rmel Le B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iversité du Maine – CNRS UMR 6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boratoires des Oxydes et Fluor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b@cristal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32280"/>
            <a:ext cx="1420920" cy="2025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47920" y="5349960"/>
            <a:ext cx="1143000" cy="1508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90920" y="6149880"/>
            <a:ext cx="1554120" cy="70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114800" y="5589720"/>
            <a:ext cx="1189080" cy="126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334120" y="5935680"/>
            <a:ext cx="1993680" cy="92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280280" y="6235560"/>
            <a:ext cx="1863720" cy="62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42000" y="4114800"/>
            <a:ext cx="44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Les Rencontres LLB - SOL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 </a:t>
            </a: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Diffraction de pou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 </a:t>
            </a:r>
            <a:r>
              <a:rPr b="0" lang="fr-FR" sz="2400" spc="-1" strike="noStrike">
                <a:solidFill>
                  <a:srgbClr val="000066"/>
                </a:solidFill>
                <a:latin typeface="Century Gothic"/>
                <a:ea typeface="Arial"/>
              </a:rPr>
              <a:t>2-3 mars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Mauvaise nouvelle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ans le domaine de l’inde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590920"/>
            <a:ext cx="7772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obin Shirley nous a quitté e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a suite logicielle d’indexation CRYSFIR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ra-t-elle un repreneu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3320" y="1219320"/>
            <a:ext cx="9040680" cy="4883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0"/>
            <a:ext cx="84582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ernière publica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Renewed interest in powder diffraction data indexing »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. Bergmann, A. Le Bail, R. Shirley and V. Zlokazov, Z. Kristallogr. 219 (2004) 783-7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172200"/>
            <a:ext cx="784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pas se limiter à un seul logiciel d’indexation…</a:t>
            </a:r>
            <a:br>
              <a:rPr sz="2400"/>
            </a:b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http://sdpd.univ-lemans.fr/uppw/benchmarks/colo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60948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Tendances en index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752480"/>
            <a:ext cx="746748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roches Monte Carlo ou algorithme génétique appliquées au diagramme de poudre brut (non pas aux simples positions de pics mais aux positions + intensités) ou reconstitu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logiciel précurseur (algorithme génétique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’a jamais été disponible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J. Synchrotron Radia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1999) 87-92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AU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TOPAS (SVD-Index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cMaille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owder Diffrac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2004) 249-2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0840" y="228600"/>
            <a:ext cx="778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- Progrès en solution d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066680"/>
            <a:ext cx="69339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- Méthodes classiques amélior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éthodes Directes, Patt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- Méthodes « nouvelles » dans l’espace di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viennent class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- Méthodes réc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rge flipp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- Approche mono ou multi dia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se rapprocher du mono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- Prédiction de structures cristal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lein boum… partielle ou to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8380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5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1 Méthodes directes / Patt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438280" y="2689200"/>
            <a:ext cx="6496200" cy="4168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8380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EXPO2005,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roupe Giacova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7 décompositions par Monte Carlo (partition au hasard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 tentatives d’attributions de phas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540 t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429000"/>
            <a:ext cx="1828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mélioration des chances de succè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 des écarts de p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vent résoudre des problèmes d’autant plus complexes qu’une partie ou même tout le motif structural est connu - molécule(s), polyèdre(s)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89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2 Méthodes dans l’espace dir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8780400" cy="429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62485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embarras du choix ? Open Access : </a:t>
            </a:r>
            <a:r>
              <a:rPr b="1" lang="fr-FR" sz="3200" spc="-1" strike="noStrike">
                <a:solidFill>
                  <a:srgbClr val="008000"/>
                </a:solidFill>
                <a:latin typeface="Times New Roman"/>
              </a:rPr>
              <a:t>FOX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, PSSP, ESP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04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3 Méthodes Nouvelles (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09680" y="2895480"/>
            <a:ext cx="4405320" cy="2163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0720" y="57150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 ce qui s’applique aux monocristaux est un jour ou l’autre testé sur les poudres, si possible… Attend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029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szl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yi &amp; Sü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2193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Iterated Projections, Principle of minimum charge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cta Cryst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5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489 (1999)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cta Cryst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201 (2003)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eit 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-4 Résolution à partir d’un seul diagramme ou de plusieur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752480"/>
            <a:ext cx="80769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ndance actuel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rocher les données de poudre des données sur mono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loitation maximale de tout ce qui peut réduire ou modifier le chevauchement des réflexion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xtur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ffets de dilatation thermique anisotrop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bstitution isotopique (neutrons)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persion anomale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binaison X/neutr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’est de la grosse artillerie, à utiliser si nécess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286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-5a Prédiction Orga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143000"/>
            <a:ext cx="800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progrès réalisés sont sensibles dans 3 publications, résultats de ‘blind tests’ de prédiction de structures organiques :</a:t>
            </a:r>
            <a:br>
              <a:rPr sz="2400"/>
            </a:b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 Lommerse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Acta Cryst. B56 (2000) 697-714.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Motherwell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Acta Cryst. B58  (2002) 647-661.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Day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Acta Cryst. B61 (2005) 511-52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83059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logiciels de prédiction proposent des centaines de modèles d’empilement de molécules, classés par énerg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des phases inconnues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on-indexé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le choix final se fait par comparaison des diagrammes de poudre théoriques avec le diagramme observ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 partielle (sans maille mais avec contenu con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Nouveau critère de similarité pour comparai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66688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« New similarity index for crystal structure determination from X-ray powder diagrams, »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.W.M. Hofmann and L. Kuleshova,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J. Appl. Cryst. 38 (2005) 861-8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57600" y="812880"/>
            <a:ext cx="46674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25720" y="272880"/>
            <a:ext cx="68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- Progrès en identification de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- Progrès en ind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- Progrès en solution d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- Hit parade des structures les plus complexe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- Progrès en automatisation du processus com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s « vraies » (?) raisons des progrè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8840" y="260280"/>
            <a:ext cx="63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-5b Prédiction inorga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447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hases inorganiques : pas quelques centaines de modèles, produits mais des milliers ou bien plus encore dans certains ca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971800"/>
            <a:ext cx="754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gt;1.000.000 de zéolithes hypothétiques pour ~150 connues !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ster et al., J. Appl. Cryst. 38 (2005) 1028-1030.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 pas réalisé : plusieurs modèles par zéo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267080"/>
            <a:ext cx="8305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tte fois des bases de données s’impo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D. Foster &amp; M.M.J. Treacy - Hypothetical Zeolites Database - 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hypotheticalzeolites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20920" y="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crystallography.net/pco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666880"/>
            <a:ext cx="33526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s par le logiciel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GRINSP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. Appl. Cryst. 38 (2005) 389-3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 total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maille et de cont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AI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 général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imitation aux réseaux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D N-connec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17760" y="574560"/>
            <a:ext cx="5826240" cy="628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8000" y="119700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re base 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C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2860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Exemple parmi les &gt; 1000 titanosilicates dans PCOD, </a:t>
            </a:r>
            <a:br>
              <a:rPr sz="2600"/>
            </a:b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prédites par GRINS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867280"/>
            <a:ext cx="8458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 si mal si on considère que K et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ne sont pas pris en compte dans la prédiction du modè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959280" cy="274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970440" cy="2690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1066680"/>
            <a:ext cx="8458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èle PCOD2200207 (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= 7.22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b = 9.97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c =12.93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SG P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05120"/>
            <a:ext cx="83059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nu comme K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i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= 7.1362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b = 9.9084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c =12.9414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SG P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Eur. J. Solid State Inorg. Chem. 34, 1997, 381-3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8380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méthodes de solution (notamment dans l’espace direct) sont si efficaces qu’on se demand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quoi prédire ? Surtout si la maille est conn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514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aison est que de nombreux cas ne sont pas résolus du fait de leur complexité ou de leur mauvaise cristallinité empêchant une index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26708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nouvelles méthodes chassent les anciennes, avec des bases de données de structures prédites, une détermination de structure se réduira à une identification suivie d’un affinement (ce n’est pas pour demain…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8380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Bataille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J. Solid State Chem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 140 (1998) 62-7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0320" y="228600"/>
            <a:ext cx="77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s typique dont la solution pourrait venir par pré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4246560" cy="2651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3440160" cy="1289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334120" y="281952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029200" y="4648320"/>
            <a:ext cx="2562120" cy="2097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53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191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60020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exation incertaine, profils de raies élargis par effet de taille de grains et/ou de défauts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pas mieux en synchrotron qu’en RX conventionnels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700280"/>
            <a:ext cx="80773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Les propriétés physiques des composés prédits peuvent elles-mêmes être prédites, orientant les efforts de synthèse des chimistes vers des cibles préci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648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Ils ne vont pas aimer du tout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qu’on leur dise quoi cherch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457200"/>
            <a:ext cx="8839440" cy="5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- Grands vainqueurs récents au hit parade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es déterminations de structures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les plus complexe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iant structure solv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526"/>
                </a:solidFill>
                <a:latin typeface="Times New Roman"/>
              </a:rPr>
              <a:t>              </a:t>
            </a:r>
            <a:r>
              <a:rPr b="1" lang="fr-FR" sz="2400" spc="-1" strike="noStrike">
                <a:solidFill>
                  <a:srgbClr val="292526"/>
                </a:solidFill>
                <a:latin typeface="Times New Roman"/>
              </a:rPr>
              <a:t>combined targeted chemistry and computational design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."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2 structures cubiques publié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- 2004 - V ~380.000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 baseline="30000">
                <a:solidFill>
                  <a:srgbClr val="292526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a ~ 73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 Fd-3m, 68 atomes indpdt (non-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925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2005 - V ~702.000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 baseline="30000">
                <a:solidFill>
                  <a:srgbClr val="292526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a ~ 89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,  Fd-3m, 74 atomes indpdt (non-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Présentées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  <a:ea typeface="Times New Roman"/>
              </a:rPr>
              <a:t>± </a:t>
            </a:r>
            <a:r>
              <a:rPr b="0" lang="fr-FR" sz="2400" spc="-1" strike="noStrike">
                <a:solidFill>
                  <a:srgbClr val="292526"/>
                </a:solidFill>
                <a:latin typeface="Times New Roman"/>
              </a:rPr>
              <a:t>comme prédites – mais diagramme de poudre index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6019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Giant but not so bi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64320" cy="237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4743720" cy="1752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19320" y="59436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gew. Chem. Int. Ed. 43 (2004) 2-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629400" cy="532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228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uper-tétraèdres assemblés en partage de sommets donnant des super-zéolithes (analogue MT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619760" cy="4991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8000" y="5950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cience 309 (2005) 2040-20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066680"/>
            <a:ext cx="906768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ès :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Changement d’état graduel et continu qui consiste en une amélioration, un perfectionnement, ou un accroissement des connaissances. »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ctionnaire Hachet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00200" y="1432080"/>
            <a:ext cx="5567400" cy="542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Processus de prédiction identique, également analogue zéolithe MT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9280" y="4572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Egaler ou surpasser ces « exploits »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371600"/>
            <a:ext cx="84582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UI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la ou les molécules, la maille et le groupe d’espace sont connus, les méthodes dans l’espace direct ne nécessitent qu’environ 50 intensités par objet à localiser dans la maille par rotation et translation (6 degrés de liberté par objet), et ce, quel que soit le volume de la maille et sa symét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EUT-ET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prédiction partielle (sans maille, avec conten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prédiction totale (sans maille, sans conten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roté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600200"/>
            <a:ext cx="876312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he first protein crystal structure determined from high-resolution X-ray powder diffraction data, a variant of T3R3 human insulin-zinc complex produced by grinding, »</a:t>
            </a:r>
            <a:br>
              <a:rPr sz="18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.B. Von Dreele, P.W. Stephens, G.D. Smith and R.H. Blessing,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ta Cryst. D56, 1549-1553 (20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G : R3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= 81.2780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c = 73.0389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 = 417860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630 atomes indépendants, 4893 paramètres affiné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gramme de poudre de 4800 points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7981 restreintes stéréochimiqu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acteur chance : 100%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ec maille, avec conte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52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La « complexité » (au sens de la difficulté de résolution)</a:t>
            </a:r>
            <a:br>
              <a:rPr sz="2600"/>
            </a:b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n’est pas proportionnelle au volume de mail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5592600" cy="4821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867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a « complexité » est une combinaison de deux facteurs : largeur de raies (FWHM) et nombre d’atomes indépendants (ou de molécu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523880"/>
            <a:ext cx="2133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stimation des volumes maxima à « complexité » constante en 1996, avant l’expansion des méthodes de solution dans l’espace di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~ 1.5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205740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ssible d’affiner sans restreintes et/ou contraintes lorsque le nombre de données est à peine supérieur au nombre de paramètres de position, ou même inférieu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lo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ci entache forcément la crédibilité des résul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808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Gros problème au fi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28800" y="228600"/>
            <a:ext cx="537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- Progrès en automatis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u processus comp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371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ites logicielles intégrées les plus complè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828800"/>
            <a:ext cx="3581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cadé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EXPO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contient que TREOR-N pour ind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’est pas très bon en « direct space » (essayez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FO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ni en Rietveld (mieux vaut passer à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FULLPRO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SA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905120"/>
            <a:ext cx="2438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Commer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TOPAS</a:t>
            </a:r>
            <a:br>
              <a:rPr sz="2400"/>
            </a:b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(Bru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Material Studio</a:t>
            </a:r>
            <a:br>
              <a:rPr sz="2400"/>
            </a:b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(Accelr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7913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 si l’automatisme ne fonctionne pas ?…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mbauchez un cristallographe bien formé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2666880"/>
            <a:ext cx="198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MAUD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WINPLOTR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POWDERX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Les vraies raisons des progrè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990720"/>
            <a:ext cx="86868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s principales dans le désord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eurs d’algorithmes, de bases de donnée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chrotrons de 3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généra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té matériel informatique : Loi de Moore, jeux vidéo (!)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ansion des mémoires et disques de stockage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réquence des processeurs x40 depuis 1995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pendant cette fréquence plafon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grès à veni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processeurs multi-cœurs prennent le relai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 parallèle chez Monsieur Toulemonde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algorithmes de type Monte Carlo s’y prêtent parfaitement bie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indexation, solution en espace direct, prédi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2120" y="3808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133720"/>
            <a:ext cx="8686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ises en gar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novation logicielle à ne pas laisser entièrement sous contrôle de compagnies à but lucratif. L’héritage des logiciels du monde académique est encore large, mais se rétrécit devant la production commercial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pas non plus laisser les bases de données entièrement sous contrôle de centres internationaux qui se disent à but non lucratif mais détiennent un monopole de fait sur un produit d’accès pay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447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« progrès » sont-ils accessibles à tous ? N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3716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oisissez une approche adaptée à votre problèm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radiation, méthodes)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lle qui vous conduira au succès.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prédiction totale est l’approche la plus diffic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8840" y="228600"/>
            <a:ext cx="69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Quelques conseils supplément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645000"/>
            <a:ext cx="9144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vous voulez publier dans Nature ou Scienc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ventez une « nouvelle » méthode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/ou dépassez largement 1.000.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sez le “hyper-giant”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1500 atomes indépendant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s seulement 1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1752480"/>
            <a:ext cx="807732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DPD - Round Robin – Blind Test   </a:t>
            </a:r>
            <a:br>
              <a:rPr sz="32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Structure Determination by Powder Diffractometr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1998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ttp://sdpd.univ-lemans.fr/SDPDR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2002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ttp://www.cristal.org/sdpdrr2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2006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?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Qui veut l’organis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1480" y="203040"/>
            <a:ext cx="80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ccroissement du nombre de déterminations </a:t>
            </a:r>
            <a:br>
              <a:rPr sz="3200"/>
            </a:b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ab initio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publi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6392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694200" cy="467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35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istogramme cumul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304812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&gt; 100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a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957760" cy="431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03280" y="260280"/>
            <a:ext cx="603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arution de liv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2894040" cy="4309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6019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ous-discipline reconnue : c’est un progrè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21400" y="324000"/>
            <a:ext cx="67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- Progrès en identification de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0666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comparaison (search-match) entre diagramme observé et diagrammes de base de données (JCPDS-ICD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384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05680" y="541008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Times New Roman"/>
              </a:rPr>
              <a:t>Ajout IC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505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Times New Roman"/>
              </a:rPr>
              <a:t>Ajout C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14800" y="304920"/>
            <a:ext cx="4721400" cy="631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380880"/>
            <a:ext cx="3124440" cy="61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ICDD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Etat actu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(pub février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Organiques :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CSD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864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norganiques :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40050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ccroissement par inclusion du « Pauling Fil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304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A-2- Progrès à venir ou en co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209680"/>
            <a:ext cx="7925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tion de structure cristal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donc prédiction de diagrammes de pou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ases 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de diagrammes de poudre e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structures hypothé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B- Progrès récents en index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-1 – DICVOL04 remplace DICVOL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fin Louër et Boultif cèdent à la tendance générale de tolérance d’impureté et de considération de décalage de zéro… 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505320"/>
            <a:ext cx="8076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-2 – « indexing benchmarks » en 2004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 nouveau logiciel peut comparer ses performances à celles des logiciels concur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va sans dire que ce n’est pas forcément du goût de tous les auteurs de logiciel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15:40Z</dcterms:created>
  <dc:creator> Armel Le Bail</dc:creator>
  <dc:description/>
  <dc:language>en-US</dc:language>
  <cp:lastModifiedBy> Armel Le Bail</cp:lastModifiedBy>
  <dcterms:modified xsi:type="dcterms:W3CDTF">2006-03-07T10:32:28Z</dcterms:modified>
  <cp:revision>104</cp:revision>
  <dc:subject/>
  <dc:title>Présentation PowerPoint</dc:title>
</cp:coreProperties>
</file>