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642100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629040"/>
            <a:ext cx="6096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Lachlan M. D. Cranswick (lachlan.cranswick@nrc.gc.c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371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lide </a:t>
            </a:r>
            <a:fld id="{A86208C1-E3CD-45B4-AB3F-427BD3BD55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54720"/>
            <a:ext cx="13716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880240"/>
            <a:ext cx="2666880" cy="977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home.att.net/~larry.finger/drawxtl/lgsiperov.gif" TargetMode="External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hyperlink" Target="http://home.att.net/~larry.finger/drawxtl/lgstish.gif" TargetMode="External"/><Relationship Id="rId5" Type="http://schemas.openxmlformats.org/officeDocument/2006/relationships/image" Target="../media/image53.png"/><Relationship Id="rId6" Type="http://schemas.openxmlformats.org/officeDocument/2006/relationships/hyperlink" Target="http://home.att.net/~larry.finger/drawxtl/lgsiperov.gif" TargetMode="External"/><Relationship Id="rId7" Type="http://schemas.openxmlformats.org/officeDocument/2006/relationships/hyperlink" Target="http://home.att.net/~larry.finger/drawxtl/lg2.gif" TargetMode="External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971800"/>
            <a:ext cx="868680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7160" y="1944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960" y="390600"/>
            <a:ext cx="783252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ree X-ray Diffraction software for handling at least some of the drudgery in powder diffraction analy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3200400"/>
            <a:ext cx="6858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.M.D. Cransw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 Program for Materials Research (NPMR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al Research Council of Canada (NRC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ing 459, Station 18, Chalk River Laboratori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lk River, Ontario, Canada, K0J 1J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: lachlan.cranswick@nrc.gc.c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: http://neutron.nrc.gc.ca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Variable Count Time data collectio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Main idea here is to increase the raw intensity of selected peak areas to assist in the “required” analysis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Up till now, if at all, mainly done for refinement (e.g., Hill and Madsen metho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On point detector (e.g., Bragg Bretano flat plate system), do this by varying the count time in a pre-defined mann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(Can also provide more time effective counting tim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4496040" cy="252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26744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3048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Fixed Count Tim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0481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Variable Count Tim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716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cc"/>
                </a:solidFill>
                <a:latin typeface="Times New Roman"/>
              </a:rPr>
              <a:t>Variable Count Time applicatio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17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qually relevant to problems where you need to adequately profile fit small / trace peaks which might not be significantly above background in a “routine”, time effective fixed count time data collection - e.g.,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Powder Index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Unit Cell refin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Quantitative Rietvel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VCT to aid in profile fitting (1 of 3) 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Fixed Count Time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VCT to aid in profile fitting (2 of 3) 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Variable Count Time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4731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VCT to aid in profile fitting (3 of 3) 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Overlaying VCT and FCT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54944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716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VCT Data Collec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1720" y="1523880"/>
            <a:ext cx="8307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imes New Roman"/>
              </a:rPr>
              <a:t>Not a routine or available option in commercial XRD control software (with the exception of Bede Scientific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imes New Roman"/>
              </a:rPr>
              <a:t>Something to keep an eye on - or request from vendo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Has the structure been solved already?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Crystallographic Structure Databas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ICSD  (Inorganic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http://www.fiz-karlsruhe.de/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Web accessible demonstration (4% of the database): 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2" marL="795240" indent="-168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http://barns.ill.fr/dif/icsd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MDF/CRYSTMET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(Metals and Alloy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http://www.tothcanada.com/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CCSD (organics and organometallics)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(Organics and Organometallic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http://www.ccdc.cam.ac.uk/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imes New Roman"/>
              </a:rPr>
              <a:t>ICSD via the Web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Using an Interface created by Alan Hewa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There is a trend for databases to use the web due to the convenience and effectiveness.  Also has advantage of being operating system independent for user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http://icsd.ill.fr/icsd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943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owder Data Conversion / Importing Data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Initial problem in powder diffraction can be getting the data in the right format.  For interconverting powder diffraction data: a variety of programs exist which in combination can pretty much get you from one format to anoth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ummary list of available software: http://www.ccp14.ac.uk/solution/powderdataconv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Text Editors may occassionally be required: converting UNIX ACSII to DOS ASCII, getting rid of spaces or tabs , column editing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Freeware PFE Editor for Window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www.lancs.ac.uk/people/cpaap/pfe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reeware ConTEXT Editor for Windows (does column editin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http://www.context.cx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65840" y="3048120"/>
            <a:ext cx="4178160" cy="281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81480" y="160020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Example of ConvX for Windows by Mark Bowden - Mass data powder diffraction data convert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Structure Importing, Conversion and Transformation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Summary list of available software at: http://www.ccp14.ac.uk/solution/structconv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Be careful to check the resul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Crystallographic knowledge is require for custom operations - pre and post transformation translations, et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Best program for the moment is the “shareware” Crysc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www.shapesoftware.com/#anchor_crysc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914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xample of Cryscon for Windows by Eric Dow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800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3049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Talk Notes on the web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1430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the CCP14 websi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cp14.ac.uk/poster-talks/axaa2005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owder Diffraction Utility Softwar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Examining Data, peak finding, background stripping, alpha-2 stri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owder v 2.00: http://www.ccp14.ac.uk/tutorial/powder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owder X, http://www.ccp14.ac.uk/tutorial/powderx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WinFIT,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http://www.geol.uni-erlangen.de/html/software/soft.ht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Winplotr, http://www-llb.cea.fr/winplotr/winplotr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XFIT, http://www.ccp14.ac.uk/tutorial/xfit-95/xfit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143000"/>
            <a:ext cx="4648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ff"/>
                </a:solidFill>
                <a:latin typeface="Times New Roman"/>
              </a:rPr>
              <a:t>WinPLOTR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data display, peak find, peak profiling, indexing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eak Profiling 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(indexing, unit cell refinement, size/strain, etc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or Overall Summary of available peak profiling software refer to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ttp://www.ccp14.ac.uk/solution/peakprofili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These include: CMPR, DRXWin, EFLECH, GPLSFT, pearson.xls, SHADOW, Powder v2.00, PowderX, Winfit, Winplotr, XF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345200" cy="3051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29200" y="495288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Examples of XFIT for Window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Powder Indexing - a non trivial endeavour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or Overall Summary of available powder indexing software refer t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solution/indexing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owder Indexing: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Autox, Ito, Dicvol, Treor, Taup/Powder, Lzon, Losh, Kohl, Scanix, Xrayscan, EFLECH/Index, Superce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Linking Suites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: Crysfire, Powder v2.00, PowderX, PROSZKI, WinPlotr, Chekce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upercel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is a specialise indexing program by Juan Rodriguez-Carvajal for indexing Super Cell and Incommensurate cells. (available within Winplot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-llb.cea.fr/winplotr/winplotr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tp://bali.saclay.cea.fr/pub/divers/fullprof.2k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Powder Indexing - the “Crysfire” suit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t present the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CRYSFIRE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software by Robin Shirley links 9 different indexing programs (including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ito, dicvol, treor, taup, kohl, lzon and fjzn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) together with a common interface and using intelligent defaults.  Important to have access to as many indexing programs as possible so you can get a feel for the range of possible solutions. (not free for commercial us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tutorial/cry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8120"/>
            <a:ext cx="205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Example of CRYSFIRE Screen prompting the saving into one of 9 different indexing program format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6781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hekcell: Interpreting Crysfire Summary Files: 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owder Indexing and Spacegroup Assignment</a:t>
            </a: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Crysfire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interlinks with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Chekcell for Windows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AU" sz="1800" spc="-1" strike="noStrike">
                <a:solidFill>
                  <a:srgbClr val="ffffff"/>
                </a:solidFill>
                <a:latin typeface="Times New Roman"/>
              </a:rPr>
              <a:t>(part of the LMGP suite for Windows by Jean Laugier and Bernard Bochu)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Chekcell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provides a graphical interface for manually and automatically suggesting a best cell/spacegroup combination using both FOM and algorithms relating to parsimony of superfluous HKLs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tutorial/lmgp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295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Other new programs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(impurity peak tolerant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VOL 2004 by A. Boultif &amp; D. Lou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cp14.ac.uk/ccp/web-mirrors/dicvol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Maille reconstructed whole profile indexing by Armel Le B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dpd.univ-lemans.fr/McMaill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Have to Index: Really a phase ID problem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When not in the database, you may have to try and index as part of phase Identifica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Following is of a herbicide commonly used in South Africa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883908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imes New Roman"/>
              </a:rPr>
              <a:t>Unit Cell Refinement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or Overall Summary of available unit cell refinement software refer t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solution/unitcellrefin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is includ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elref, LAPOD, Refcel, Unitcell, Eracel, Powder v2.00, XLAT, et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an be helpful to perform a conventional unit-cell refinement prior to a Le Bail fit or quantitative analysis when given cell values are far from the actual val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nit Cell Refinement - what is needed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rofiled peak positions (using a peak profile progra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ell (and spacegrou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UNIT Cell refinement program to perform the refin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Useful to check the alignment of your diffractometer (don’t just rely on one Silicon or Quartz peak); perform a unit cell refinement on the entire 2-theta range supported by the diffractometer (e.g., 5 to 160 for many Bragg Brentano diffractomet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CELREF for Unit Cell Refinement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276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by Jean Laugier and Bernard Boch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http://www.ccp14.ac.uk/tutorial/lmgp/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524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cc"/>
                </a:solidFill>
                <a:latin typeface="Times New Roman"/>
              </a:rPr>
              <a:t>Why  bother knowing about a variety of MODERN software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3200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92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 of Most Resistan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a variety of “state-of-the-art” tools can improve versatility by allowing different pathways and approaches to tackle crystallographic problem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9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6172200" cy="33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4038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Loading the raw data file (optional)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637320" cy="4978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733920" y="1371600"/>
            <a:ext cx="51418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Loading the peak listing file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7899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Load or input the cell and spacegroup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0200" y="146700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Auto-match peak positions to HKLs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53036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Perform the refinement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534528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NITCell refinement with internal standard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(such as NBS/NIST Silicon)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XLAT - Berhard Rup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tp://jgiqc.llnl.gov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ccp14.ac.uk/ccp/ccp14/ftp-mirror/llnlrupp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tp://ftp.ccp14.ac.uk/ccp14/ftp-mirror/llnlrupp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Full Profile Fitting (Powder)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or Overall Summary of available full profile analysis refer t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Le Bail based: http://www.ccp14.ac.uk/solution/lebail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awley Based: http://www.ccp14.ac.uk/solution/pawley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most common method of full profile fitting is that of Le Bail fitting: which is in most Rietveld packages.  It is useful fo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Spacegroup Assign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Unit Cell Refinement (especially when overlap is a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Extracting Intensities for Structure Solu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52640" y="151920"/>
            <a:ext cx="9296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cc"/>
                </a:solidFill>
                <a:latin typeface="Times New Roman"/>
              </a:rPr>
              <a:t>Unit Cell Refinement: Mass Le Bail fitting: multi-phase - overlapping patterns</a:t>
            </a:r>
            <a:endParaRPr b="0" i="1" lang="en-US" sz="2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Le Bail fit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533520"/>
            <a:ext cx="3047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22068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Traditional Metho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486400" y="990720"/>
            <a:ext cx="2741760" cy="5182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2724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cc"/>
                </a:solidFill>
                <a:latin typeface="Times New Roman"/>
              </a:rPr>
              <a:t>Quickly and automatically tracking changes in masses of data using a script in GSAS:  </a:t>
            </a:r>
            <a:endParaRPr b="0" i="1" lang="en-US" sz="2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419720" cy="3405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5638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Structure Refinement using Powder Diffraction Data</a:t>
            </a:r>
            <a:br>
              <a:rPr sz="3200"/>
            </a:b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(Rietveld Refinemen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Large range of programs to choose fr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http://www.ccp14.ac.uk/mirror/mirror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specialize for particular types of problems, incommensurate structures, quantitative analysis, polymers, et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ITVE, BGMN, DBWS, DEBVIN, EXP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prof, GSAS, Koalariet, LHPM-Rietica, MAUD for Java (GPL’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mos/Remos, ProDD, Profil, Riet7/SR5, Rietan 2000 (GPL’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tquan, Simref, WinMprof, XND, XRS-82/DLS-7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0" y="0"/>
            <a:ext cx="9137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cc"/>
                </a:solidFill>
                <a:latin typeface="Times New Roman"/>
              </a:rPr>
              <a:t>Using the right crystallographic method can make the difference!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335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220680" indent="-220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Le Bail fitting / Rietv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533520"/>
            <a:ext cx="449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5080" indent="-235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ing Traditional UNIT CELL refinement Method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78480" y="990720"/>
            <a:ext cx="2741760" cy="5182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35080" y="990720"/>
            <a:ext cx="2724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Rietveld Programs - GSAS b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on Dreele and Lar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762120"/>
            <a:ext cx="7848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With  Graphical User Interface using Brian Toby’s EXPGU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Still got to appreciate and know your crystallography for inserting and refining the crystal struct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http://www.ccp14.ac.uk/solution/gsas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6504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GSAS Rietveld: Some Relevant Background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Bob von Dreele and Alan Lars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u based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le for Windows / DOS / Linux / SG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arate GUI by Brian Toby (EXPGUI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ed X-ray /  Neutron / Single Crystal / Powder Diffra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ed Fourier map generation and view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143000"/>
            <a:ext cx="4648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SAS resources, tutorials and link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including links to EXPGU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www.ccp14.ac.uk/solution/gsas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a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ond ang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ond lengt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n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tal Chemistry / charge balan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iral volu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i/psi grou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rsion ang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ual Marquadt damp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 shift lim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ts of other featu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cc"/>
                </a:solidFill>
                <a:latin typeface="Times New Roman"/>
              </a:rPr>
              <a:t>GSAS :  Combined refinement on both XRD and Neutron</a:t>
            </a:r>
            <a:endParaRPr b="0" i="1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60020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-ray 7.6% R(F**2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~3.8% R Brag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6002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tron 4.2% R(F**2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~2.1% R Brag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-38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MAUD for Java : GPL’d - can be used by all!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914400"/>
            <a:ext cx="89917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utorial on “Performing an x-ray quantitative analysis in seven easy steps!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ing.unitn.it/~luttero/maud/tutorial/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949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41907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Quantitative Phase Analy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imes New Roman"/>
              </a:rPr>
              <a:t>Non-trivial and in many cases, custom solutions may be required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imes New Roman"/>
              </a:rPr>
              <a:t>Rietveld programs are commonly used for Quantitative Analysis (refer list in previous slide)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imes New Roman"/>
              </a:rPr>
              <a:t>Maud for Java Quantitative Analysis Tutorial: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http://www.ing.unitn.it/~luttero/maud/tutorial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imes New Roman"/>
              </a:rPr>
              <a:t>Refer to non-Rietveld references cited in: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86200" y="762120"/>
            <a:ext cx="5257800" cy="51051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ollowing using Koalariet / XF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(fundamental paramet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ccp14.ac.uk/tutorial/xfit-95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94360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http://www.ccp14.ac.uk/poster-talks/david-hay-quant-notes-axaa99/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152280"/>
            <a:ext cx="8915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For trace quantitative analysis, variable count time on the trace peaks that matter could be beneficial - if your data collection software allows you 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eak profiling on trace peaks is difficult with fixed count time!  Same goes with Rietveld fitting of trace pha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eak profiling on trace peaks can be made easier by using Variable Count time metho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Accurate” Quantitative Phase Analysis - is it routinely easy?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371600"/>
            <a:ext cx="7010640" cy="51055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Based on the IUCr CPD Quant Round Rob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http://www.iucr.org/iucr-top/comm/cpd/QARR/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The answer seems to be </a:t>
            </a:r>
            <a:r>
              <a:rPr b="1" lang="en-GB" sz="4400" spc="-1" strike="noStrike">
                <a:solidFill>
                  <a:srgbClr val="ff3300"/>
                </a:solidFill>
                <a:latin typeface="Times New Roman"/>
              </a:rPr>
              <a:t>No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 quote from Armel Le Bail’s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macle “twinned refinement” manual seems appropriat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sdpd.univ-lemans.fr/museum/tmacle92.zi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GOOD LUCK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IT'S VERY HARD!  DON'T YOU THINK SO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NLY THE BOSS SAID THAT IT IS EASY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BUT HE NEVER TRIED!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TO HAVE THE SOLUTION DEPENDS ON YOU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NOT ON THIS PROGRAM WHICH IS JUST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BLE TO TEST YOUR HYPOTHESIS....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9528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owder diffraction pattern calculation</a:t>
            </a:r>
            <a:br>
              <a:rPr sz="3600"/>
            </a:b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oudrix for Wind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600200"/>
            <a:ext cx="4191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owder Cell by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ean Laugier and Bernard Boch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http://www.ccp14.ac.uk/tutorial/lmgp/#pdw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udrix can handle anomalous dispersion at non X-ray tube wavelengths with the option of two models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nann and Cow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sak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2636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Talk Agend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from Data conversion and phase ident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through to photo realistically rendering crystal structur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stops inclu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 profil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der index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der unit cell refin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tveld structure refinement (briefly as this is covered in other talk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ntitative Phase Analysis (very briefly as covered in other talk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realistic rendering of crystal structu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owder diffraction pattern calculation</a:t>
            </a:r>
            <a:br>
              <a:rPr sz="3600"/>
            </a:b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owder Cell for Wind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4267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By Werner Kraus and Gert Nolze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www.ccp14.ac.uk/tutorial/powdcell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freeware but if you want the software continued, consider giving a minimum of 15 Euros under an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"Agreement on a Financing Contribution for Subsidy Projects"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572000" cy="3362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1522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Simulating multiple phase patterns with Powder Cel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600200"/>
            <a:ext cx="8534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s possible to easily load two or more phases and calculate powder patter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ine the degree of peak overl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imate number of counts required to see desired phases prior to running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elementary effects of geometry, wavelength and peak offs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152280"/>
            <a:ext cx="8991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imulating multiple phase patterns with Powder Cell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pen the phase / crystal structure using File Load: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(in this case : anatase and rutil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1522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Change the diffraction conditions as required using the “Diffraction, Experiment” men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858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t this point, what would the diffraction pattern of 1% Anatase in Rutile look like - use the “Diffraction Phase Option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1614600"/>
            <a:ext cx="66294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Then OK to calculate the diffraction pattern of 1% Anatase in Rutile : Recalcul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78168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reeware” for photorealistic hardcopy output of structures</a:t>
            </a:r>
            <a:br>
              <a:rPr sz="2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GRETEP and Povra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380880" y="1447920"/>
            <a:ext cx="5715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Gretep for Windows (Jean Laugier and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Bernard Bochu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n open Shelx, PowderCell, LazyPulvarix and CIF.  Export Povray fi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oint and click operation.  Save all information into a Gretep file (atom labels, bond labels, colours, et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ttp://www.ccp14.ac.uk/tutorial/lmgp/#gret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http://www.ccp14.ac.uk/ccp/web-mirrors/lmgp-laugier-bochu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Povray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Freeware open source photorealistic rendering softwa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http://www.povray.or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GRETEP - rendered structur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816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iperov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124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88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DrawXTL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 for for Window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by Larry Finger and Martin Kroeker -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 Structure Drawing softwa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371600"/>
            <a:ext cx="54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lwfinger.net/drawxtl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" name="screen" descr=""/>
          <p:cNvPicPr/>
          <p:nvPr/>
        </p:nvPicPr>
        <p:blipFill>
          <a:blip r:embed="rId3"/>
          <a:stretch/>
        </p:blipFill>
        <p:spPr>
          <a:xfrm>
            <a:off x="228600" y="2608200"/>
            <a:ext cx="4343400" cy="3492720"/>
          </a:xfrm>
          <a:prstGeom prst="rect">
            <a:avLst/>
          </a:prstGeom>
          <a:ln w="0">
            <a:noFill/>
          </a:ln>
        </p:spPr>
      </p:pic>
      <p:pic>
        <p:nvPicPr>
          <p:cNvPr id="248" name="stish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121932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2428920" y="1722600"/>
            <a:ext cx="4286160" cy="3293640"/>
            <a:chOff x="2428920" y="1722600"/>
            <a:chExt cx="4286160" cy="3293640"/>
          </a:xfrm>
        </p:grpSpPr>
        <p:sp>
          <p:nvSpPr>
            <p:cNvPr id="250" name=""/>
            <p:cNvSpPr/>
            <p:nvPr/>
          </p:nvSpPr>
          <p:spPr>
            <a:xfrm>
              <a:off x="2428920" y="1722600"/>
              <a:ext cx="4286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8920" y="1722600"/>
              <a:ext cx="4286160" cy="27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cc00cc"/>
                  </a:solidFill>
                  <a:uFillTx/>
                  <a:latin typeface="Times New Roman"/>
                  <a:hlinkClick r:id="rId6"/>
                </a:rPr>
                <a:t>  </a:t>
              </a:r>
              <a:r>
                <a:rPr b="1" lang="en-US" sz="17200" spc="-1" strike="noStrike">
                  <a:solidFill>
                    <a:srgbClr val="ffffcc"/>
                  </a:solidFill>
                  <a:latin typeface="Times New Roman"/>
                </a:rPr>
                <a:t> </a:t>
              </a: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                                                     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28920" y="4435560"/>
              <a:ext cx="428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253" name="sm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722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reeware for photorealistic hardcopy output of structures</a:t>
            </a:r>
            <a:br>
              <a:rPr sz="2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Balls and Sticks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</a:rPr>
              <a:t>by </a:t>
            </a:r>
            <a:r>
              <a:rPr b="0" i="1" lang="en-GB" sz="2200" spc="-1" strike="noStrike">
                <a:solidFill>
                  <a:srgbClr val="ffffcc"/>
                </a:solidFill>
                <a:latin typeface="Times New Roman"/>
              </a:rPr>
              <a:t>Sung J. Kang &amp; Tadashi C. Ozaw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144792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295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www.toycrate.or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point and click creation of polyhedra and bonds via a Windows graphical user interf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876920" y="3200400"/>
            <a:ext cx="1950840" cy="3249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2014560" cy="2895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759040" cy="2895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934320" y="3048120"/>
            <a:ext cx="19047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hase Identification/Search Match for Powder Diffraction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wo main parts to perform computer based search-match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1. Have a Powder Diffraction Database (buy or make your ow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2. Search-match software that uses the above database to sea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atabas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ICDD has the commercial powder diffraction database area sewn up   http://www.icdd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Nearly all Search-match programs are commer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Refer to, "Available Search-Match Software" for a list of known softwar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solution/search-matc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ree Software: Brian Toby's "Portable Logic Program" (UNIX) and "MacDiff" for Apple Mac freeware by Rainer Petschi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Times New Roman"/>
              </a:rPr>
              <a:t>Some Other Web Resources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IUCr Commission on Powder Diffraction Newsletter (free hardcopy sent by air-mail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iucr.org/iucr-top/comm/cpd/Newsletter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u.iucr.org/iucr-top/comm/cpd/Newsletter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D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icdd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UCr News On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iucr.org/cww-top/crystal.index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au.iucr.org/cww-top/crystal.index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UCr Sincris Software Data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se.iucr.org/sincris-top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Times New Roman"/>
              </a:rPr>
              <a:t>Summary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Large Genetic Diversity of Softwar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This diversity is necessary to help you get the job done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Getting better all the time (some areas faster than other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Free available for Academics and Students and much is freely available for everyone (if in doubt check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3300"/>
                </a:solidFill>
                <a:latin typeface="Times New Roman"/>
              </a:rPr>
              <a:t>BUT remember that difficult problems have a habit of being difficult to do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Much of which is downloadable via the EPSRC funded CCP14 websi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Times New Roman"/>
              </a:rPr>
              <a:t>http://www.ccp14.ac.u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Times New Roman"/>
              </a:rPr>
              <a:t>E-mail: ccp14@dl.ac.uk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Times New Roman"/>
              </a:rPr>
              <a:t>Phase Identification/Search Match for Powder Diffraction 2 of 3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imes New Roman"/>
              </a:rPr>
              <a:t>Identifying an organic – DL-Valin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066680"/>
          <a:ext cx="716292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1629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Times New Roman"/>
              </a:rPr>
              <a:t>Phase Identification/Search Match for Powder Diffraction 3 of 3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imes New Roman"/>
              </a:rPr>
              <a:t>Multiphase mixture: Flourite, Corundum, Zincit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1066680"/>
          <a:ext cx="7162920" cy="48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16292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Sample Preparation and Data Collectio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09760" indent="-2224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ssumption is that you know about appropriate sample preparation and data coll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However, many hardware vendors might not provide the required flexibility in data coll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3:52:14Z</dcterms:created>
  <dc:creator>LDEO Petrology</dc:creator>
  <dc:description/>
  <dc:language>en-US</dc:language>
  <cp:lastModifiedBy>AECL</cp:lastModifiedBy>
  <cp:lastPrinted>2002-01-26T20:04:48Z</cp:lastPrinted>
  <dcterms:modified xsi:type="dcterms:W3CDTF">2005-01-31T18:02:15Z</dcterms:modified>
  <cp:revision>19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cp14.ac.uk</vt:lpwstr>
  </property>
  <property fmtid="{D5CDD505-2E9C-101B-9397-08002B2CF9AE}" pid="9" name="LinkColor">
    <vt:r8>16711782</vt:r8>
  </property>
  <property fmtid="{D5CDD505-2E9C-101B-9397-08002B2CF9AE}" pid="10" name="MailAddress">
    <vt:lpwstr>l.m.d.cranswick@dl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achlan\ccp14a\axaa2002\talk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