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8.png" ContentType="image/png"/>
  <Override PartName="/ppt/media/image5.png" ContentType="image/png"/>
  <Override PartName="/ppt/media/image30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pptx" ContentType="application/vnd.openxmlformats-officedocument.presentationml.presentation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43FB-B19E-4F97-BA88-C4E47F75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EA76-DA90-4C7F-B180-83248B26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385-C5C4-48DE-A03A-8F03A921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8AA1-763E-4804-9BD8-CBE3182D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B044-BDA8-48EA-BC97-DF3156327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422E7-9F8D-40F7-9327-DAACE028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FF6C-DEC1-4F81-84EF-CF2BFC2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EBC9-6471-42B1-9571-EE532B8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30DD-12F7-4C52-A79F-27990136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902D-EE47-4235-970E-68BD893D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9F581-17AC-44C5-9B68-BAF7174F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EB6-567C-48D1-A4D4-F70EBAE7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0E6A1-90C1-4F7E-8954-FF783848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24DF-EE24-4E8D-9E51-4C572C8C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7C9A-F633-4CD3-9C8E-92EB08C7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C81D-53E8-42D8-B9FA-9F599263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C8FB-1399-4924-A7C4-172E8BCF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875-5EED-4059-B9B2-8EB35815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DB48-977C-499A-9E34-570F1EDA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F1D-C2AD-46B0-9A6B-F76C6730D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910-A8BA-47C4-91E0-666AE5E3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16D-CEA8-41F5-8D6C-6810352F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0F08-5E5B-4B17-AD2B-91DBFD11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47DF-E279-4133-A2FE-67AE3C81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0FE3-8C76-4267-9773-599C8044699B}" type="slidenum">
              <a:rPr b="1" lang="en-A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8584-37AC-447A-BFD0-13E7B4E39007}" type="slidenum"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package" Target="../embeddings/oleObject2.ppt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Release by the International Centre for Diffraction Data (ICDD) of New Powder Data Mining Tools:  the PDF-4/Full File and</a:t>
            </a:r>
            <a:br>
              <a:rPr sz="4400"/>
            </a:br>
            <a:r>
              <a:rPr b="0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PDF-4/Organics Databases</a:t>
            </a:r>
            <a:r>
              <a:rPr b="1" i="1" lang="en-AU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ICDD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828800" cy="10540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438280" y="3843360"/>
            <a:ext cx="647712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Brian O’Connor*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</a:t>
            </a:r>
            <a:r>
              <a:rPr b="0" lang="en-GB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Camden Hubbard</a:t>
            </a:r>
            <a:r>
              <a:rPr b="0" lang="en-GB" sz="2400" spc="-1" strike="noStrike" baseline="30000">
                <a:solidFill>
                  <a:srgbClr val="99ccff"/>
                </a:solidFill>
                <a:latin typeface="Arial"/>
                <a:ea typeface="Times New Roman"/>
              </a:rPr>
              <a:t>#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, Tim Fawcett and John Faber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ational Centre for Diffraction Data, Newtown Square, PA, USA.</a:t>
            </a:r>
            <a:br>
              <a:rPr sz="2400"/>
            </a:br>
            <a:r>
              <a:rPr b="0" lang="en-GB" sz="2400" spc="-1" strike="noStrike">
                <a:solidFill>
                  <a:srgbClr val="ffff66"/>
                </a:solidFill>
                <a:latin typeface="Arial"/>
                <a:ea typeface="Times New Roman"/>
              </a:rPr>
              <a:t>* Curtin University of Technology, Perth</a:t>
            </a:r>
            <a:br>
              <a:rPr sz="2400"/>
            </a:br>
            <a:r>
              <a:rPr b="0" lang="en-GB" sz="2400" spc="-1" strike="noStrike">
                <a:solidFill>
                  <a:srgbClr val="99ccff"/>
                </a:solidFill>
                <a:latin typeface="Arial"/>
                <a:ea typeface="Times New Roman"/>
              </a:rPr>
              <a:t># Oak Ridge National Laboratory, Tennessee</a:t>
            </a:r>
            <a:br>
              <a:rPr sz="4800"/>
            </a:b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80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ISO-9001 PDF Review Process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3840120"/>
            <a:ext cx="85345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133720" y="39625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 Four Ste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ial Proces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514600"/>
            <a:ext cx="23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ra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1523880"/>
            <a:ext cx="299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CD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it. Searc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1523880"/>
            <a:ext cx="11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47520" y="259092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67480" y="15238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C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391520" y="25909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CD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dit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1523880"/>
            <a:ext cx="134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I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523880"/>
            <a:ext cx="3048120" cy="830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523880"/>
            <a:ext cx="1463760" cy="838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3962520"/>
            <a:ext cx="2743200" cy="753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09680" y="5105520"/>
            <a:ext cx="66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ll data put in a common format, statistically analyzed, and classified in numerous way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514600"/>
            <a:ext cx="2438280" cy="754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562720" y="1523880"/>
            <a:ext cx="1341360" cy="8384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37600" y="1523880"/>
            <a:ext cx="1706400" cy="830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352680"/>
            <a:ext cx="854280" cy="549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800" y="2438280"/>
            <a:ext cx="0" cy="130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2438280"/>
            <a:ext cx="60948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81480" y="2590920"/>
            <a:ext cx="1828800" cy="8301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7315200" y="2536920"/>
            <a:ext cx="1828800" cy="892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48520" y="2362320"/>
            <a:ext cx="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286000"/>
            <a:ext cx="0" cy="274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5105160" y="3505320"/>
            <a:ext cx="974520" cy="204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943600" y="3581280"/>
            <a:ext cx="2193840" cy="34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19320" y="1235160"/>
            <a:ext cx="4022640" cy="547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65320"/>
            <a:ext cx="146376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609480"/>
            <a:ext cx="85341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RD Identification with the PD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03160" y="106200"/>
            <a:ext cx="21816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752480"/>
            <a:ext cx="7070760" cy="26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Examp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d coloured material covering beach at the mouth of the Chapman River, Geraldton, Western Austral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esidents expressed concern that the material might be polluting residue from mineral sands Industry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90720" y="53341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owder data analysed with the MDI search/match identification program and the PDF-4 databa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4400" y="5334120"/>
            <a:ext cx="7010280" cy="8380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chapman%20river%20xrd" descr="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1828800" y="152280"/>
            <a:ext cx="5715000" cy="4397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80880" y="4648320"/>
            <a:ext cx="8763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Arial"/>
              </a:rPr>
              <a:t>Result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pattern is dominated by the phases almandine, quartz and ilmenite. Almandine and ilmenite are present as minor phases in  ‘normal’ beach san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rosion of the beach by water outflow from the river, plus wave action, has preferentially removed the less-dense quartz. There is no evidence of mineral processing residu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he garnet almandine accounts for the red coloratio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175248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514600"/>
            <a:ext cx="85345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data are arranged in a series of database tab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format allows searchable access to all physical property data f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PDF-4 offers 30+ separate searchable diffraction and physical property field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Integrated display, search and indexing software is standard with the PDF-4 format.  (Contact your software distributor for automatic search/match software.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21932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e PDF-4 format is a new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relational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base container for the PDF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80360" y="173160"/>
            <a:ext cx="372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228600" y="304920"/>
          <a:ext cx="5897520" cy="376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04920"/>
                    <a:ext cx="5897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3886200" y="3143160"/>
          <a:ext cx="4952880" cy="371484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143160"/>
                    <a:ext cx="495288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800600" y="2895480"/>
            <a:ext cx="609480" cy="1295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05320" y="1981080"/>
            <a:ext cx="1066680" cy="32004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981080"/>
            <a:ext cx="990360" cy="3962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43400" y="1981080"/>
            <a:ext cx="0" cy="35816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3640" y="430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7920" y="2438280"/>
            <a:ext cx="5562360" cy="221004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4572000"/>
            <a:ext cx="3352680" cy="155700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ew format – d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arranged in tabula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ections with point a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interfa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0"/>
            <a:ext cx="914400" cy="838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81480" y="533520"/>
            <a:ext cx="137160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97080" y="115920"/>
            <a:ext cx="18921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ill hav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d” op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380880" y="3187800"/>
          <a:ext cx="8534520" cy="33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87800"/>
                    <a:ext cx="853452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914400" y="838080"/>
            <a:ext cx="7467480" cy="192276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te both “stick patterns” and digital patter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gital patterns can be user modified to simula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e users instrumental condi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phisticated data mining ability (upcoming slides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ualization software included and integra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-the-Fly Pattern Calcul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2117880" cy="27482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7086600" y="2286000"/>
            <a:ext cx="2057400" cy="267660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257800" y="4648320"/>
            <a:ext cx="1494000" cy="16858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334120" y="2057400"/>
            <a:ext cx="242064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7,201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1440" y="2209680"/>
            <a:ext cx="22809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57,048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85400" y="5637240"/>
            <a:ext cx="229608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Miner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7,535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4920" y="228600"/>
            <a:ext cx="8458200" cy="16786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72,000 entrie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eased in three PDF-4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62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Master Datab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3581280" cy="55627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81280" y="1600200"/>
            <a:ext cx="5562720" cy="37515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unk = PDF Entry Numb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ranches = 30+ Searchable Proper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ie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wigs = Classification Systems of t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operty Fiel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aves = Individual Material Property  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     Val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PDF Tre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17960" cy="3468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657600" y="1066680"/>
            <a:ext cx="4800600" cy="10688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able Property Fiel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00000" y="2286000"/>
            <a:ext cx="441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 Colo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6 Sub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458 Mineral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30 Space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6 Organic Functional Group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620 Journals Cod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&gt; 500,000 Reference Cit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38360" y="4952880"/>
            <a:ext cx="660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ontinuous ranges of melting points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nsities, I/Ic, unit cell parameters, temperat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and pressu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5480" y="6264360"/>
            <a:ext cx="155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Arial"/>
              </a:rPr>
              <a:t>Lea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4724280" y="5867280"/>
            <a:ext cx="457200" cy="5335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Branches &amp; Twig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33720" y="304920"/>
            <a:ext cx="633888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Searche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19320" y="4952880"/>
            <a:ext cx="7467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ditional Searches for PDF-4 Organic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145160" y="1143000"/>
            <a:ext cx="3329280" cy="34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Element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umber of Ele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mpirical Formul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on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ral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neral Classificati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-Spac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DF Quality Mark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ference Intensity Ratio, I/Ic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23680" y="1143000"/>
            <a:ext cx="2995200" cy="37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DF-4 Sub-fi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pace Grou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arson Symbol Cod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totype Struct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duced Cell Parameter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emperature and Pressu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ns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Melting Point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lor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uthor Nam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Journ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1960" y="5257800"/>
            <a:ext cx="161604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gment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23640" y="5257800"/>
            <a:ext cx="354096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ic Functional Group  (206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armaceutic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ug Activity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00" y="-22320"/>
            <a:ext cx="63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6520" y="320760"/>
            <a:ext cx="63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1800" y="2463840"/>
            <a:ext cx="637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4815000" y="914400"/>
            <a:ext cx="61920" cy="568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914400"/>
            <a:ext cx="883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CDD organis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Powder Diffraction Fi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‘new’ PDF-4 databas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s identification with the PDF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base structure, and use in data mi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ata mining examp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PDF-4 demonst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1400" y="0"/>
            <a:ext cx="730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opics to be Covered in Talk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219320" y="2057400"/>
          <a:ext cx="6476760" cy="45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647676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0" y="1371600"/>
          <a:ext cx="9144000" cy="54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371600"/>
                    <a:ext cx="9144000" cy="5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"/>
          <p:cNvSpPr/>
          <p:nvPr/>
        </p:nvSpPr>
        <p:spPr>
          <a:xfrm flipH="1">
            <a:off x="2590560" y="685800"/>
            <a:ext cx="53316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47920" y="685800"/>
            <a:ext cx="167616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85800"/>
            <a:ext cx="45720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85800"/>
            <a:ext cx="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133360" y="685800"/>
            <a:ext cx="990360" cy="9144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85800"/>
            <a:ext cx="1067040" cy="838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The Main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609480" y="2895480"/>
          <a:ext cx="8326440" cy="17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895480"/>
                    <a:ext cx="832644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"/>
          <p:cNvGraphicFramePr/>
          <p:nvPr/>
        </p:nvGraphicFramePr>
        <p:xfrm>
          <a:off x="609480" y="4876920"/>
          <a:ext cx="8170920" cy="157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876920"/>
                    <a:ext cx="8170920" cy="157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685800" y="1523880"/>
          <a:ext cx="8202600" cy="101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23880"/>
                    <a:ext cx="82026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98080"/>
            <a:ext cx="7772400" cy="8334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More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533520" y="1752480"/>
          <a:ext cx="8123040" cy="9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123040" cy="9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"/>
          <p:cNvGraphicFramePr/>
          <p:nvPr/>
        </p:nvGraphicFramePr>
        <p:xfrm>
          <a:off x="533520" y="2971800"/>
          <a:ext cx="8164440" cy="140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971800"/>
                    <a:ext cx="8164440" cy="14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09480" y="4572000"/>
          <a:ext cx="8183520" cy="1133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4572000"/>
                    <a:ext cx="8183520" cy="11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711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And Even More Branch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57200" y="1523880"/>
          <a:ext cx="8170920" cy="100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170920" cy="10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1219320" y="2590920"/>
          <a:ext cx="6781680" cy="42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590920"/>
                    <a:ext cx="6781680" cy="4267080"/>
                  </a:xfrm>
                  <a:prstGeom prst="rect">
                    <a:avLst/>
                  </a:prstGeom>
                  <a:ln w="9360">
                    <a:solidFill>
                      <a:srgbClr val="eaeaea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8280" y="2894040"/>
            <a:ext cx="40075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int and Click for Elem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1840" y="5638680"/>
            <a:ext cx="47588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Operators – And/Or/Not/Only/Jus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8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Example: Mining the Database </a:t>
            </a:r>
            <a:br>
              <a:rPr sz="3600"/>
            </a:b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tart with an Element Search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1295280" y="1600200"/>
          <a:ext cx="6596280" cy="494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659628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5410080" y="1676520"/>
            <a:ext cx="35020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Just Aluminiu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13560" y="3808440"/>
            <a:ext cx="28890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Aluminium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1560" y="38088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1295280" y="1295280"/>
          <a:ext cx="6705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295280"/>
                    <a:ext cx="6705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5638680" y="2249640"/>
            <a:ext cx="3505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lect Best Phase –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d on Quality Mar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791320"/>
            <a:ext cx="44197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d digital XRD Patte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5720" y="27144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5" name=""/>
          <p:cNvGraphicFramePr/>
          <p:nvPr/>
        </p:nvGraphicFramePr>
        <p:xfrm>
          <a:off x="457200" y="1074600"/>
          <a:ext cx="6324480" cy="47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74600"/>
                    <a:ext cx="63244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5181480" y="2251080"/>
            <a:ext cx="3733920" cy="17092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ange the XRD Patter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Rang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Wavelengt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eak Pro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5240" y="304920"/>
            <a:ext cx="72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Mining the Database for Aluminiu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9" name=""/>
          <p:cNvGraphicFramePr/>
          <p:nvPr/>
        </p:nvGraphicFramePr>
        <p:xfrm>
          <a:off x="2438280" y="2133720"/>
          <a:ext cx="54198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133720"/>
                    <a:ext cx="5419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316080" y="1598760"/>
            <a:ext cx="513972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06 Functional Group Classificatio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3124080"/>
            <a:ext cx="21672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Fused R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07320" y="5105520"/>
            <a:ext cx="31298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055 entries for fus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ing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 flipV="1">
            <a:off x="5181480" y="4647960"/>
            <a:ext cx="106704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6200" y="380880"/>
            <a:ext cx="844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/Organic Functional Group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228600" y="3657600"/>
          <a:ext cx="42670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57600"/>
                    <a:ext cx="42670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4800600" y="3600360"/>
          <a:ext cx="4343400" cy="325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60036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1075680" y="2741760"/>
            <a:ext cx="2209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41 In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22920" y="2741760"/>
            <a:ext cx="241632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3,271 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09480" y="914400"/>
          <a:ext cx="8170920" cy="1571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914400"/>
                    <a:ext cx="8170920" cy="15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854640" y="42840"/>
            <a:ext cx="74109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pace Group Search – P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36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(19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5" name=""/>
          <p:cNvGraphicFramePr/>
          <p:nvPr/>
        </p:nvGraphicFramePr>
        <p:xfrm>
          <a:off x="762120" y="914400"/>
          <a:ext cx="7553160" cy="566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553160" cy="566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>
            <a:off x="7094160" y="1751040"/>
            <a:ext cx="16196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ard”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774840" y="3392640"/>
            <a:ext cx="236304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mall Crystalli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RD Simul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3960" y="5484960"/>
            <a:ext cx="270144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lecular Draw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2860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 Organics – File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00" y="-22320"/>
            <a:ext cx="6336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6520" y="320760"/>
            <a:ext cx="6336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1800" y="2463840"/>
            <a:ext cx="637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3400" rIns="23400" tIns="11520" bIns="11520" anchor="t">
            <a:spAutoFit/>
          </a:bodyPr>
          <a:p>
            <a:pPr>
              <a:tabLst>
                <a:tab algn="l" pos="0"/>
                <a:tab algn="l" pos="233280"/>
                <a:tab algn="l" pos="466560"/>
                <a:tab algn="l" pos="700200"/>
                <a:tab algn="l" pos="933480"/>
                <a:tab algn="l" pos="1166760"/>
                <a:tab algn="l" pos="1400040"/>
                <a:tab algn="l" pos="1633680"/>
                <a:tab algn="l" pos="1866960"/>
                <a:tab algn="l" pos="2100240"/>
                <a:tab algn="l" pos="2333520"/>
                <a:tab algn="l" pos="2567160"/>
                <a:tab algn="l" pos="2800440"/>
                <a:tab algn="l" pos="3033720"/>
                <a:tab algn="l" pos="3267000"/>
                <a:tab algn="l" pos="3500280"/>
                <a:tab algn="l" pos="3733920"/>
                <a:tab algn="l" pos="3967200"/>
                <a:tab algn="l" pos="4200480"/>
                <a:tab algn="l" pos="4433760"/>
                <a:tab algn="l" pos="4667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815000" y="914400"/>
            <a:ext cx="61920" cy="5683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14400"/>
            <a:ext cx="883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The ICDD comprises a volunteer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cientific membership of 350 diffractionists from 41countries, plus a headquarters staff of 38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Dedicated to 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On-going development of the PDF, including its Grant-in-Aid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Advancement of x-ray instrumental sc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X-ray analytical science education – workshops, Denver X-ray Conference, et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ternational networking – conference and workshop support, etc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Supporting PhD students through its scholarship progr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13320" y="-55440"/>
            <a:ext cx="481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What is the ICDD?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543800" cy="5657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256800" y="2513160"/>
            <a:ext cx="2448360" cy="22885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rug A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xcipie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harmaceutic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olymer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26 Total Subfi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3880" y="228600"/>
            <a:ext cx="62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DF-4 Organics – File Search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40120" y="2590920"/>
            <a:ext cx="860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ata Mining – Global Searches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448640" y="91440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Pink crystal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Density = 1.25 – 1.30 g/c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Melting point = 75 – 80 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  <a:ea typeface="Times New Roman"/>
              </a:rPr>
              <a:t>°</a:t>
            </a:r>
            <a:r>
              <a:rPr b="0" i="1" lang="en-US" sz="2400" spc="-1" strike="noStrike">
                <a:solidFill>
                  <a:srgbClr val="eaeaea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4920" y="2514600"/>
            <a:ext cx="40730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DF-4 Organics – 147,201 Entri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0960" y="3505320"/>
            <a:ext cx="417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ensity Window – 13,269 Materi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96720" y="304920"/>
            <a:ext cx="52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Organic Crystal Identification (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514600"/>
            <a:ext cx="4114800" cy="533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920" y="3505320"/>
            <a:ext cx="4114800" cy="4572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610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876920" y="3505320"/>
          <a:ext cx="380988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505320"/>
                    <a:ext cx="380988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2286000" y="3124080"/>
            <a:ext cx="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038480"/>
            <a:ext cx="0" cy="2286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04920" y="2513160"/>
            <a:ext cx="4326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MP Window – reduces to 8 material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3560" y="3505320"/>
            <a:ext cx="45684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lour Window – reduces to 1 mater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dibenzoxylmethane, C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15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12</a:t>
            </a: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O</a:t>
            </a:r>
            <a:r>
              <a:rPr b="0" i="1" lang="en-US" sz="20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6720" y="304920"/>
            <a:ext cx="526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Organic Crystal Identification (2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04920" y="2514600"/>
            <a:ext cx="4267080" cy="5335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61080" y="377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3505320"/>
            <a:ext cx="4419720" cy="7617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241960" y="4384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105520" y="3505320"/>
          <a:ext cx="380988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505320"/>
                    <a:ext cx="380988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"/>
          <p:cNvSpPr/>
          <p:nvPr/>
        </p:nvSpPr>
        <p:spPr>
          <a:xfrm>
            <a:off x="2514600" y="91440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14600" y="3124080"/>
            <a:ext cx="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4920" y="274680"/>
            <a:ext cx="8458200" cy="5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AU" sz="2800" spc="-1" strike="noStrike">
                <a:solidFill>
                  <a:srgbClr val="eaeaea"/>
                </a:solidFill>
                <a:latin typeface="Arial"/>
              </a:rPr>
              <a:t>Search for Passive Solar Home Heating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57200" y="838080"/>
            <a:ext cx="868680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1 – Melting point search (home comfort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2 – Eliminate photodegradable hydrocarbons: extended application lif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ep 3 – Review search and eliminate potentially harmful materi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9520" y="3400560"/>
            <a:ext cx="2246400" cy="3823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. Element Searc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3560" y="4314960"/>
            <a:ext cx="2783160" cy="38232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. Melting Point Searc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0320" y="5305320"/>
            <a:ext cx="3832920" cy="992160"/>
          </a:xfrm>
          <a:prstGeom prst="rect">
            <a:avLst/>
          </a:prstGeom>
          <a:solidFill>
            <a:srgbClr val="00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duces a list of 17 candidate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8 contain heavy metal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 is an explosiv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5257800"/>
            <a:ext cx="3429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520" bIns="38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Arial"/>
              </a:rPr>
              <a:t>All 8 candidate materials are referenced in the patent literature for passive solar heating applica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396252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89280" y="468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81080" y="4876920"/>
            <a:ext cx="0" cy="2286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2444760" y="2438280"/>
            <a:ext cx="41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monstration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371600"/>
            <a:ext cx="8991720" cy="3993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DF is designed to identify crystalline material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urrently contains 279,854 unique data sets characterised by x-ray diffr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hysical properties, experimental preparation and literature citations includ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the next several years ~ 30,000 material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ill be added to the PDF per year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2716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78000"/>
            <a:ext cx="77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The PDF Data Base in 2003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65240" y="286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84360" y="118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219320"/>
          <a:ext cx="9448920" cy="592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19320"/>
                    <a:ext cx="944892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914400" y="325440"/>
            <a:ext cx="8381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aeaea"/>
                </a:solidFill>
                <a:latin typeface="Arial"/>
              </a:rPr>
              <a:t>Growth of the PDF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6360" y="1828800"/>
            <a:ext cx="8635680" cy="35060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 addition to 280,000 data sets, you will find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00,000 dens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00,000 colour classific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50,000 melting poi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73,000 distinct empirical formula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ver 500,000 reference cit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,602 different searchable journal coden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838080" y="243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378000"/>
            <a:ext cx="921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archable PDF Descriptors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685800" y="1981080"/>
          <a:ext cx="3429000" cy="25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3429000" cy="25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407200" y="1523880"/>
          <a:ext cx="3736800" cy="25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7200" y="1523880"/>
                    <a:ext cx="37368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1523880" y="5181480"/>
          <a:ext cx="7023240" cy="81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5181480"/>
                    <a:ext cx="702324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7560" y="4572000"/>
            <a:ext cx="473760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22,816 entries - 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28360" y="3886200"/>
            <a:ext cx="44128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56,614 entries - 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23240" y="6094440"/>
            <a:ext cx="424368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8,423 entries - 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9520" y="1141560"/>
            <a:ext cx="4397760" cy="459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92,011 entries – ICDD Sour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28600"/>
            <a:ext cx="844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"/>
              </a:rPr>
              <a:t>Database Partners with the ICDD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3360" y="375840"/>
            <a:ext cx="81626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CDD-MPDS Collaboration on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rganic Materials –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New 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9930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Inorganic</a:t>
            </a:r>
            <a:r>
              <a:rPr b="0" lang="en-US" sz="17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structures and properties abstracted by the Materials Phases Data System and MPDS-JST (Japan Science &amp; Technology Corporation)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Access to future abstracts from Linus Pauling File project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by MPDS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S-entry structural data, including atomic coordinates added to the PDF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Data sets are added to the database after carrying out the duplicate review to exclude overlap with all other sources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PDF entries will be updated with synthesis and reference citations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  <a:p>
            <a:pPr marL="290520" indent="-290520">
              <a:lnSpc>
                <a:spcPct val="90000"/>
              </a:lnSpc>
              <a:spcBef>
                <a:spcPts val="524"/>
              </a:spcBef>
              <a:buClr>
                <a:srgbClr val="99ccff"/>
              </a:buClr>
              <a:buSzPct val="110000"/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Arial"/>
              </a:rPr>
              <a:t>~ 100,000 atomic coordinate sets to be added in 2005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352680" y="5105520"/>
            <a:ext cx="266724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Organic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47,201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60600" y="2817720"/>
            <a:ext cx="228096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Full Fi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57,048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60960" y="3960720"/>
            <a:ext cx="2296080" cy="8254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DF-4/Miner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17,535 en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62520" y="6400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DF-4 Master Databa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1371600"/>
            <a:ext cx="81532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80,000 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tries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leased in three PDF-4 produ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53:52Z</dcterms:created>
  <dc:creator>ICDD</dc:creator>
  <dc:description/>
  <dc:language>en-US</dc:language>
  <cp:lastModifiedBy>Brian O'connor</cp:lastModifiedBy>
  <dcterms:modified xsi:type="dcterms:W3CDTF">2003-09-08T13:08:00Z</dcterms:modified>
  <cp:revision>74</cp:revision>
  <dc:subject/>
  <dc:title>PowerPoint Presentation</dc:title>
</cp:coreProperties>
</file>